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A2A-3968-4C66-8F33-36160810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0B0-BDAD-432D-9B9A-944CE36F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A01-852A-4A2C-9D57-D553C479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1BB-969E-49C0-83D7-496CBBAC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A42-514D-47EB-98D9-49DED334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BF0C-DFD8-4F56-8552-B515040A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DEAF-A8FF-44E6-8AD9-9FD230C4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258-233B-4811-BA99-70CF296A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A93-D772-4F25-BBA8-9351C9A6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6C7-0797-485D-9962-9CC4C3D1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2FC-19BE-4E7B-86AA-439613AC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2D4-B9AF-43D0-B242-D5160E48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3B7F-D8DE-4F05-9DB3-39C8168CB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61 Krásnu vla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dhernú, krásnu vla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vú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ystá nám Spasiteľ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rásnu vlasť pre svoj ľud chystá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mov pre spasených z milost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žiaľu tam nebude, ani r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mútku, sĺz, smrt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ch úzkostí.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dhernú, krásnu vla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vú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ystá nám Spasiteľ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hriešnom a slzavom údol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rozí smrť žalostný zániko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ľub tvoj však, Pan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náš, dovol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pásy breh z di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k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útn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dhernú, krásnu vla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vú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ystá nám Spasiteľ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šade nech znie tá zvesť radostná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ich si príde vzi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lávy Pá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končí sa naša púť bolest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ríbytok 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úben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ari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5:48:01Z</dcterms:modified>
  <cp:revision>22</cp:revision>
  <dc:subject/>
  <dc:title>Je veľký náš Pán, on slávy je Kráľ Nech do všetkých strán  spev vrúcnych znie chvál.</dc:title>
</cp:coreProperties>
</file>